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2.wmf" ContentType="image/x-wmf"/>
  <Override PartName="/ppt/media/image34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2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20FD-5673-40EC-8320-1E3C87910D0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196B-8760-4C87-9E79-11294D8E01A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210-17A2-43E7-BDC2-9C3CA2E6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39C-836A-4B57-B715-0A2A901B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DF8-627C-43E3-9B8D-4A2469C9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F35-6795-4C9E-A52B-61BB24DE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793-3707-4908-880A-4D434F74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C2A-1F3D-4DA6-B74B-3333AD67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9AC-58E6-487E-8085-7A62E898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DC3-AFCD-4760-9924-E60FF7C3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568-5B53-4D09-B091-5F55A989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BA5-4C4B-4EE3-9AB3-87390806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38F-ADB6-4754-9FC3-900F549F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1E2-EFC0-447B-9E61-AFE27069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DC9B-5B30-44B9-9732-F8EA4D7F0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o1zW-JImRk" TargetMode="Externa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411280" y="5013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Chemistry of 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3141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2" descr=""/>
          <p:cNvPicPr/>
          <p:nvPr/>
        </p:nvPicPr>
        <p:blipFill>
          <a:blip r:embed="rId1"/>
          <a:stretch/>
        </p:blipFill>
        <p:spPr>
          <a:xfrm>
            <a:off x="1332000" y="182520"/>
            <a:ext cx="6912000" cy="64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Naming Rules for Org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fix indicates the number of carbon atoms in the chain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43280" y="981000"/>
          <a:ext cx="4038840" cy="5029200"/>
        </p:xfrm>
        <a:graphic>
          <a:graphicData uri="http://schemas.openxmlformats.org/drawingml/2006/table">
            <a:tbl>
              <a:tblPr/>
              <a:tblGrid>
                <a:gridCol w="1724040"/>
                <a:gridCol w="23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C’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88"/>
          <p:cNvSpPr/>
          <p:nvPr/>
        </p:nvSpPr>
        <p:spPr>
          <a:xfrm>
            <a:off x="468360" y="4005360"/>
            <a:ext cx="40384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ding indicates            the functional groups in the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C “e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H “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k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-C single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ormula 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re “n” is the number of carbon atoms in the ch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correct prefix to indicate the number of carb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ing is “a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wing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3 ways to draw an organic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 Diagra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hows all bonds in the molecule.  (the H’s are generally left off to keep structures cl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ensed 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o bonds but all atoms are shown in sequence. (Must put bonds between C’s in for cyclo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 (Skeletal) Diagra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rbon atoms are implied by the vertices (including ends) in the structure, H’s are not shown but any other atoms are wri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"/>
          <p:cNvPicPr/>
          <p:nvPr/>
        </p:nvPicPr>
        <p:blipFill>
          <a:blip r:embed="rId1"/>
          <a:stretch/>
        </p:blipFill>
        <p:spPr>
          <a:xfrm>
            <a:off x="5508720" y="4229280"/>
            <a:ext cx="3954240" cy="2871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tretch/>
        </p:blipFill>
        <p:spPr>
          <a:xfrm>
            <a:off x="5702400" y="2565360"/>
            <a:ext cx="3456000" cy="234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457200" y="549360"/>
          <a:ext cx="8229600" cy="604836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386080"/>
              </a:tblGrid>
              <a:tr h="79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1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n-1-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xyeth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503280" y="1700280"/>
            <a:ext cx="2521080" cy="126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4"/>
          <a:stretch/>
        </p:blipFill>
        <p:spPr>
          <a:xfrm>
            <a:off x="6227640" y="1905120"/>
            <a:ext cx="2345040" cy="66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5"/>
          <a:stretch/>
        </p:blipFill>
        <p:spPr>
          <a:xfrm>
            <a:off x="826920" y="3500280"/>
            <a:ext cx="2197440" cy="1222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6"/>
          <a:stretch/>
        </p:blipFill>
        <p:spPr>
          <a:xfrm>
            <a:off x="503280" y="5300640"/>
            <a:ext cx="26287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62140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ing Branched Hydrocarb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the longest continuous chain or ring of carbon ato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the carbons from the end that gives the lowest sum for the numbers of the branch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each branch and indicate its location with a numb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the branches in alpha order before the prefix for the number of carb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as separate numbers and hyphens separate numbers from wo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re is more than 1 of the same branch Greek prefixes are used to indicate this but the prefix is not counted in determining alpha or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mon 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669960"/>
          <a:ext cx="8362800" cy="3627360"/>
        </p:xfrm>
        <a:graphic>
          <a:graphicData uri="http://schemas.openxmlformats.org/drawingml/2006/table">
            <a:tbl>
              <a:tblPr/>
              <a:tblGrid>
                <a:gridCol w="2090880"/>
                <a:gridCol w="2090520"/>
                <a:gridCol w="2090880"/>
                <a:gridCol w="2090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propy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o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t-buty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H</a:t>
                      </a:r>
                      <a:r>
                        <a:rPr b="0" lang="en-CA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H</a:t>
                      </a:r>
                      <a:r>
                        <a:rPr b="0" lang="en-CA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CA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y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H</a:t>
                      </a:r>
                      <a:r>
                        <a:rPr b="0" lang="en-CA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x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O</a:t>
                      </a:r>
                      <a:r>
                        <a:rPr b="0" lang="en-CA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Picture 125" descr=""/>
          <p:cNvPicPr/>
          <p:nvPr/>
        </p:nvPicPr>
        <p:blipFill>
          <a:blip r:embed="rId1"/>
          <a:stretch/>
        </p:blipFill>
        <p:spPr>
          <a:xfrm>
            <a:off x="5219640" y="765000"/>
            <a:ext cx="936720" cy="860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3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136872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k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1 or more C=C double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naming use the suffix “en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ition of the double bond is indicated for simple alkenes with 4 or more carbons or for all branched alk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ition of the double bond is indicated with a number in front of the “e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k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at least 1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C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naming use the suffix “yn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ition of the triple bond is indicated for simple alkynes with 4 or more carbons or for all branched alky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ition of the triple bond is indicated with a number in front of the “y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amolecular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ces of electrostatic attraction within a molec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ccur between the nuclei of the atoms and their electrons making up the molecule (i.e. covalent bo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ust be broken by chemical means and form new substances when bro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termine the chemical properties of a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Is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mers are molecules with the same formula but different stru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different types of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 in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ame organic fami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.e. 2 alkenes) but have a different arrangement of the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me formula but are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fferent organic famil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.e. an alcohol and e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metri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ffer in the placement of groups around a double bond.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cis-trans” iso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c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rror images of each other that cannot be superimposed onto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ometric Isomers (“cis-trans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158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uble bonds prevent the rotation of atoms around the bond axis which creates 2 different molecu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“cis”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orm of the molecule the groups attached to the double bond are on the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side of the double bon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“trans”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orm of the molecule the groups are attached on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different sid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ouble bon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is and trans goes with the bond NOT THE GROUPS ATTACHED!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60836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eneral Rules for Naming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prefix indicates the number of carbon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ending indicates the functional groups in the structure (C=C “ene”,  –OH “ol”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y branches are indicated before the prefix for the number of carbons in alphabetic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low shows the order of different components in th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BRANCH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Arial"/>
              </a:rPr>
              <a:t># of C’s </a:t>
            </a:r>
            <a:r>
              <a:rPr b="0" lang="en-US" sz="2600" spc="-1" strike="noStrike">
                <a:solidFill>
                  <a:srgbClr val="00b0f0"/>
                </a:solidFill>
                <a:latin typeface="Arial"/>
              </a:rPr>
              <a:t>BOND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FUNCTIONAL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in alpha order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      alpha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alpha 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(“oic acid” always la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ing Cyclo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6091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ongest continuou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“cyclo” in front of the prefix for the number of carbons. i.e. “cyclop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the ring to give you the lowest sum of all the numbers. You can start anywhere and go clockwise or counter clockw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only 1 thing on the ring, NO NUMBER is used. (e.g. methylcyclopentane not 1-methylcyclopenta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Naming Hydrocarbon (Alkyl) Branch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549360"/>
            <a:ext cx="8229600" cy="56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ll alkyl branches will be attached to the main chain at carbon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rbon 1 of the branch is attached to the main chain the branch is named using the prefix for the # of C’s with “yl” attached. (i.e. propyl, penty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t is not attached at carbon 1, you must indicate which carbon it is attached at as fol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n-2-yl, pentan-3-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o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5338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organic family which are derivatives of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enz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nzene has the molecular formula C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tructural formul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f benzene consists of a 6-member carbon ring with 3 C=C double bo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6012000" y="1125360"/>
          <a:ext cx="258732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125360"/>
                    <a:ext cx="258732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ructure of Benz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nzene is a planar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carbon-carbon bonds in benzene are all the same length and energy which is evidence that the bonds are not true double and single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f the bonds are not true single and double bonds what are the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carbon-carbon bonds in benzene are all 139 pm which is intermediate between the length of a C-C single bond and a C=C double bond (double bonds are short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s indicates that the electrons that make up the “double bonds” in benzene are actually delocalized (i.e. shared) around all six carbon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915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s arrangement of the electrons is indicated in the 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LINE DIAGRAM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by placing a circle in the centre of the 6-member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ternatively, benzene can be represented as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419640" y="2997360"/>
          <a:ext cx="2331720" cy="26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997360"/>
                    <a:ext cx="233172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molecular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ces of attraction between two molecules  (i.e. London dispersion forces, dipole–dipole interactions or hydrogen bo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uch weaker than Intramolecular forces and are much easier to br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hysical changes (changes of state) break or weaken these fo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 not form new substances when bro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se forces determine the physical properties of a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ing Aro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Arial"/>
              </a:rPr>
              <a:t>Using benzene as the main chai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Identify the groups attached and number according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For compounds with 2 groups attached, the following prefixes may be used instead of the numbers; 1,2 = ortho (o), 1,3 = meta (m) and 1,4 = para (p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5"/>
          <p:cNvGraphicFramePr/>
          <p:nvPr/>
        </p:nvGraphicFramePr>
        <p:xfrm>
          <a:off x="324000" y="328680"/>
          <a:ext cx="8351640" cy="28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8680"/>
                    <a:ext cx="8351640" cy="28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346860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he benzene ring is not the main chain, 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phenyl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s used to indicate a benzene ring as a bra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Names for Aroma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3923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coh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contain the hydroxy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 (-OH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cohols can be classified by the position of the OH grou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Primar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-OH is at the end of the cha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tan-1-o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Secondar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-OH is attached to a C with one 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tan-2-o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(OH)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 Tertia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-OH is attached to a C with no H’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thylpropan-2-ol C(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ing Alcoh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name of the main chain containing the hydroxyl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the ‘e’ on the end of the main chain and add ‘ol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the number to which the -OH is bonded to starting at 3 carbons using the same rules as for a double or triple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multiple -OH groups indicate this using the appropriate Greek pref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the R-O-R’ functional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est carbon chain connected to the O is the bas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oxy” to the end of the prefix for the other carbon chain (e.g methoxy, propan-2-ox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the position of the ether linkage using a number in front of the “oxy branch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the R-O-O-R’ functional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unstable and break down spontaneously to form the ether and oxygen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“yl” forms of the hydrocarbon chains in alpha order, followed by the word per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dehydes and Ke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6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dehydes and ketones both contain the carbonyl group (C=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ldehydes, the carbonyl group is attached to the end car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ketones, the carbonyl group is attached to a carbon that is not on th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considered functional isomers of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6"/>
          <p:cNvGrpSpPr/>
          <p:nvPr/>
        </p:nvGrpSpPr>
        <p:grpSpPr>
          <a:xfrm>
            <a:off x="1760400" y="4363920"/>
            <a:ext cx="2529000" cy="2087640"/>
            <a:chOff x="1760400" y="4363920"/>
            <a:chExt cx="2529000" cy="2087640"/>
          </a:xfrm>
        </p:grpSpPr>
        <p:pic>
          <p:nvPicPr>
            <p:cNvPr id="133" name="Picture 2" descr=""/>
            <p:cNvPicPr/>
            <p:nvPr/>
          </p:nvPicPr>
          <p:blipFill>
            <a:blip r:embed="rId1"/>
            <a:stretch/>
          </p:blipFill>
          <p:spPr>
            <a:xfrm>
              <a:off x="1760400" y="4363920"/>
              <a:ext cx="2529000" cy="17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3"/>
            <p:cNvSpPr/>
            <p:nvPr/>
          </p:nvSpPr>
          <p:spPr>
            <a:xfrm>
              <a:off x="2267280" y="5991840"/>
              <a:ext cx="151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pa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7"/>
          <p:cNvGrpSpPr/>
          <p:nvPr/>
        </p:nvGrpSpPr>
        <p:grpSpPr>
          <a:xfrm>
            <a:off x="5148360" y="4521240"/>
            <a:ext cx="2448000" cy="1858680"/>
            <a:chOff x="5148360" y="4521240"/>
            <a:chExt cx="2448000" cy="1858680"/>
          </a:xfrm>
        </p:grpSpPr>
        <p:pic>
          <p:nvPicPr>
            <p:cNvPr id="13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4521240"/>
              <a:ext cx="244800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5"/>
            <p:cNvSpPr/>
            <p:nvPr/>
          </p:nvSpPr>
          <p:spPr>
            <a:xfrm>
              <a:off x="5544360" y="592020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pan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ing Aldehy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70344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longest chain containing the carbonyl group, remove the “e” and add “al” as the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=O is always carbon 1. (unless it is with a carboxyl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ing Ke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longest chain containing the carbonyl group, remove the “e” and add “one” as the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ecessary indicate the position of the carbonyl using the lowest numerical coeffic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substituents are numbered so the sum is the low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ndon Dispersion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forces are based on the simultaneous attraction of the electrons of one molecule by the positive nuclei of neighbouring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ength of the force is directly related to the number of electrons and protons in a given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r the number of electrons and protons the greater th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xyl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the carboxyl functiona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longest chain containing the carboxyl group, remove the “e” and add “oic”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boxyl group is always carbon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“oic acid” always goes last in th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692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tastes and od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the ester lin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6227640" y="476280"/>
          <a:ext cx="221004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476280"/>
                    <a:ext cx="221004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6"/>
          <p:cNvSpPr/>
          <p:nvPr/>
        </p:nvSpPr>
        <p:spPr>
          <a:xfrm>
            <a:off x="468360" y="2060640"/>
            <a:ext cx="7848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from an alcohol and a carboxylic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“yl” form of the alcohol proceeded with the “oate” form of the carboxylic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“alkyl oa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Object 5"/>
          <p:cNvGraphicFramePr/>
          <p:nvPr/>
        </p:nvGraphicFramePr>
        <p:xfrm>
          <a:off x="900000" y="907920"/>
          <a:ext cx="374508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907920"/>
                    <a:ext cx="37450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7"/>
          <p:cNvGraphicFramePr/>
          <p:nvPr/>
        </p:nvGraphicFramePr>
        <p:xfrm>
          <a:off x="4500720" y="3357720"/>
          <a:ext cx="3740040" cy="26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3357720"/>
                    <a:ext cx="374004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ain the amino functiona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ypes of A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imary: Contain 1 carbon chain (2 H’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condary: Contain 2 carbon chains (1 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rtiary: Contain 3 carbon chains (no H’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ing Am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longest carbon chain and use it as the bas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other alkyl chains on the N in alpha order with “N” in front of each to indicate that they are on the nitrogen and not the main ch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the “e” from the base name and a number to indicate where the amino is attached and then add “am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4"/>
          <p:cNvGraphicFramePr/>
          <p:nvPr/>
        </p:nvGraphicFramePr>
        <p:xfrm>
          <a:off x="684360" y="476280"/>
          <a:ext cx="1726920" cy="16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172692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3"/>
          <p:cNvGraphicFramePr/>
          <p:nvPr/>
        </p:nvGraphicFramePr>
        <p:xfrm>
          <a:off x="5292720" y="547560"/>
          <a:ext cx="2232000" cy="17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547560"/>
                    <a:ext cx="223200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14"/>
          <p:cNvGraphicFramePr/>
          <p:nvPr/>
        </p:nvGraphicFramePr>
        <p:xfrm>
          <a:off x="4222800" y="2316240"/>
          <a:ext cx="4224240" cy="32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2800" y="2316240"/>
                    <a:ext cx="42242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15"/>
          <p:cNvGraphicFramePr/>
          <p:nvPr/>
        </p:nvGraphicFramePr>
        <p:xfrm>
          <a:off x="611280" y="4076640"/>
          <a:ext cx="2376360" cy="160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4076640"/>
                    <a:ext cx="2376360" cy="16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6"/>
          <p:cNvGraphicFramePr/>
          <p:nvPr/>
        </p:nvGraphicFramePr>
        <p:xfrm>
          <a:off x="3348000" y="4724280"/>
          <a:ext cx="5508720" cy="31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8000" y="4724280"/>
                    <a:ext cx="550872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Box 7"/>
          <p:cNvSpPr/>
          <p:nvPr/>
        </p:nvSpPr>
        <p:spPr>
          <a:xfrm>
            <a:off x="395280" y="2492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ethylpentan-2-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836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the amide lin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ly similar to e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nkage joins amino acids together to create polypept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3"/>
          <p:cNvGraphicFramePr/>
          <p:nvPr/>
        </p:nvGraphicFramePr>
        <p:xfrm>
          <a:off x="5796000" y="765000"/>
          <a:ext cx="2025720" cy="23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765000"/>
                    <a:ext cx="202572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ing Am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me has 2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 Nam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number of carbons in the chain containing the carbony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mide to th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fo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any groups attached the nitrogen using N in place of a numb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4"/>
          <p:cNvGraphicFramePr/>
          <p:nvPr/>
        </p:nvGraphicFramePr>
        <p:xfrm>
          <a:off x="900000" y="260280"/>
          <a:ext cx="259236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259236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5"/>
          <p:cNvGraphicFramePr/>
          <p:nvPr/>
        </p:nvGraphicFramePr>
        <p:xfrm>
          <a:off x="755640" y="2060640"/>
          <a:ext cx="331164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2060640"/>
                    <a:ext cx="33116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6"/>
          <p:cNvGraphicFramePr/>
          <p:nvPr/>
        </p:nvGraphicFramePr>
        <p:xfrm>
          <a:off x="5364000" y="189000"/>
          <a:ext cx="2374920" cy="18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189000"/>
                    <a:ext cx="237492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7"/>
          <p:cNvGraphicFramePr/>
          <p:nvPr/>
        </p:nvGraphicFramePr>
        <p:xfrm>
          <a:off x="5076720" y="2060640"/>
          <a:ext cx="338472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6720" y="2060640"/>
                    <a:ext cx="33847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8"/>
          <p:cNvGraphicFramePr/>
          <p:nvPr/>
        </p:nvGraphicFramePr>
        <p:xfrm>
          <a:off x="2627280" y="2708280"/>
          <a:ext cx="3600360" cy="210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7280" y="2708280"/>
                    <a:ext cx="360036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9"/>
          <p:cNvGraphicFramePr/>
          <p:nvPr/>
        </p:nvGraphicFramePr>
        <p:xfrm>
          <a:off x="1835280" y="4869000"/>
          <a:ext cx="4967280" cy="326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35280" y="4869000"/>
                    <a:ext cx="496728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ic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pole-Dipole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 between polar molecules having dip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with dipoles are characterized by oppositely charged ends that are due to an unequal distribution of charge on the molec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larity of a molecule is determined by both the polarity of the bond and the shape of the molec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forces are based on the simultaneous attraction of the electrons of one dipole by the dipoles of neighbouring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ength of the force is related to the polarity of the given molec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organic families will under go combu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 Combu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mplete Combu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tom or group on the chain is replaced by another. (SWITCH!! 1 on 1 o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milies that Participate in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k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: hal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UV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: haloalkane + hydrogen ha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o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 With Hal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Fe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Al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: halobenzene + hydrogen ha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) With Alkyl Ha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Al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: alkyl benzene + hydrogen ha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) With Nit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sulphu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: nitrobenzene +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coh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ha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Zn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ucas Rea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: alkyl halide +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s reaction is a qualitative test for the different types of alcohols because the rate of the reaction differs greatly for a primary, secondary and tertiary alcohol due to the solubility of the resulting alkyl hal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rtiary Alcohol 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urns cloudy immediately (th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kyl halide is not soluble in water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d precipitates 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condary Alcohol 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urns cloudy after 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imary Alcohol 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akes much longer than 5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inutes to turn clo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 E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binar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heat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s: 2 alkyl halides +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paring Amines (Ammon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lkyl ha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talyst: 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s: amine + hydrogen ha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tion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roups (or atoms) to the chain by breaking a pi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 With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platinum (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: alk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) With Hal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C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: haloalkane (2 halogen ato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Hydrogen Halide 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: haloalkane (1 halogen at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Water 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00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: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 these reactions follo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ovnikov’s R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the H gets added to the C in the double bond that started with the most H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tion Reactions 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ky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alkenes but 2 moles of each to fully saturate the triple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dehydes and Ke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(aka a redu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Pt and 101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: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dehyde = primary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tone = secondary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al of 2 atoms/groups to form a double bo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coh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s: alkene +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kyl ha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: hydroxide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: alkene + water + halide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29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forces are a type of dipole – dipole inte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 between Hydrogen atoms in one molecule and highly electronegative atoms (F, O, N) in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ongest of the Intermolecular forces and are about 1/10 the strength of a covalent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296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ss of electrons by the carbon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izing agents will usually result in a colour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hromat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romium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ange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gre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ganat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nganese (IV) 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urple)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bro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izing agent: K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: “diol” (each C in the double bond gets an OH 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coh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izing agent: K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:  depends on type of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Alcohol = aldehyd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Alcohol = ke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tiary Alcohol = NO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dehy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ince ketones can not be oxidized, oxidation reactions can be used as a qualitative test to distinguish between an aldehyde and ke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idizing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 KM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rple to brown in aldehyde, st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le in ke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) 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ange to green in aldehyd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ys orange in ke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hling’s 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opper (II) solution): blue to an orangish brown precipitate (i.e. copper metal) in an aldehyde, stays blue in a ke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llen’s Reag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ilver ions in ammonia): clear and colourless to a black precipitate with a silver mirrored coating on the glassware in an aldehyde, stays colourless in a ke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the silver mirror 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ver Mirror Vid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Uo1zW-JIm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youtube.com/watch?NR=1&amp;feature=endscreen&amp;v=hUX_cpFWN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from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ensation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720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ing 2 molecules together by removing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H” for the water comes from 1 molecule and the “OH” comes from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coh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: another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4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s: ether +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: a 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talyst: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s: ester +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3510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ines (1° and 2° on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: carboxyl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talyst: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ducts: amide +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drolysis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84456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ting apart of a molecule by adding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er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: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talyst: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s: alcohol + 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rrever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: water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s: alcohol + carboxylate ion + metal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m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: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talyst: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s: amine + 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n.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6 # 1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7 # 9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31 #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37 # 1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39 # 4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53 #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45 #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62 # 5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55 # 1-10a) 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72 # 7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74 # 30-32,35,37-44,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121 # 38,63,65,71,72,74,103,108,11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acteristics of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carbon atoms in chains or r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covalent bo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le intermolecular force is London Disp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olecular formula can represent many different compounds (isom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are determined by the presence of certain groups within the compound (functional group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549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following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 pg 116-1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poly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n addition polymer is and how it is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 condensation polymer is and how one is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er cross-li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put monomers together to form a polymer and identify the monomer given the poly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120 #13, 15-18, pg 121 353-62, pg 127 #1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are there so many Organic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has 4 valence electrons therefore 4 bo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readily bonds with other carbon atoms forming chains, branched or cycl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also readily bonds with other elements such as O, N, S, halog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50920" y="735120"/>
            <a:ext cx="8569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58:48Z</dcterms:created>
  <dc:creator>wilsonj</dc:creator>
  <dc:description/>
  <dc:language>en-US</dc:language>
  <cp:lastModifiedBy>Wilson, Jen</cp:lastModifiedBy>
  <dcterms:modified xsi:type="dcterms:W3CDTF">2015-04-02T14:04:58Z</dcterms:modified>
  <cp:revision>80</cp:revision>
  <dc:subject/>
  <dc:title>Organic Chemistry</dc:title>
</cp:coreProperties>
</file>